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9600" cy="61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9600" cy="61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7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254160" indent="-22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6520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96516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2360" indent="-152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79560" indent="-152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79560" indent="-152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79560" indent="-152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32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8400"/>
            <a:ext cx="4037040" cy="5259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cc"/>
                </a:solidFill>
                <a:latin typeface="Lucida Grande"/>
              </a:rPr>
              <a:t>Governments in Ancient Greece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Each Greek city = city-state with its own form of governme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 forms of government developed in Greek city-states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838080" indent="-51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monarch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838080" indent="-51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oligarch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838080" indent="-51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tyrann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838080" indent="-514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Grande"/>
              </a:rPr>
              <a:t>democracy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cc"/>
                </a:solidFill>
                <a:latin typeface="Lucida Grande"/>
              </a:rPr>
              <a:t>Monarchy - "One Leader"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Lucida Grande"/>
              </a:rPr>
              <a:t>From the Greek monos (one) &amp; archon (leader)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Ruling power is in the hands of one person, usually a king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6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Lucida Grande"/>
              </a:rPr>
              <a:t>Power is </a:t>
            </a:r>
            <a:r>
              <a:rPr b="1" lang="en-US" sz="3600" spc="-1" strike="noStrike">
                <a:solidFill>
                  <a:srgbClr val="d90b00"/>
                </a:solidFill>
                <a:latin typeface="Lucida Grande"/>
              </a:rPr>
              <a:t>hereditary</a:t>
            </a:r>
            <a:r>
              <a:rPr b="0" lang="en-US" sz="3600" spc="-1" strike="noStrike">
                <a:solidFill>
                  <a:srgbClr val="d90b00"/>
                </a:solidFill>
                <a:latin typeface="Lucida Grande"/>
              </a:rPr>
              <a:t> = power passes from parent to child</a:t>
            </a: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 (usually from father to son)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cc"/>
                </a:solidFill>
                <a:latin typeface="Lucida Grande"/>
              </a:rPr>
              <a:t>Oligarchy - "Few Rule"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506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Lucida Grande"/>
              </a:rPr>
              <a:t>From the Greek oligos (few) &amp; archo (to rule or govern)</a:t>
            </a:r>
            <a:r>
              <a:rPr b="0" lang="en-US" sz="3600" spc="-1" strike="noStrike">
                <a:solidFill>
                  <a:srgbClr val="d90b00"/>
                </a:solidFill>
                <a:latin typeface="Lucida Grande"/>
                <a:ea typeface="ヒラギノ角ゴ ProN W3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Lucida Grande"/>
              </a:rPr>
              <a:t>Ruling power is in the hands of a small group of people, usually wealthy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Grande"/>
              </a:rPr>
              <a:t>Oligarchs</a:t>
            </a: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 share control of a country or empire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cc"/>
                </a:solidFill>
                <a:latin typeface="Lucida Grande"/>
              </a:rPr>
              <a:t>Tyranny - "Lord or Master"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From the Greek turannos (lord, master, sovereign) </a:t>
            </a:r>
            <a:r>
              <a:rPr b="0" lang="en-US" sz="3600" spc="-1" strike="noStrike">
                <a:solidFill>
                  <a:srgbClr val="000000"/>
                </a:solidFill>
                <a:latin typeface="Lucida Grande"/>
                <a:ea typeface="ヒラギノ角ゴ ProN W3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Lucida Grande"/>
              </a:rPr>
              <a:t>Ruling power is in the hands of one person who is not a lawful king/ruler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0b00"/>
                </a:solidFill>
                <a:latin typeface="Lucida Grande"/>
              </a:rPr>
              <a:t>Tyrants </a:t>
            </a:r>
            <a:r>
              <a:rPr b="0" lang="en-US" sz="3600" spc="-1" strike="noStrike">
                <a:solidFill>
                  <a:srgbClr val="d90b00"/>
                </a:solidFill>
                <a:latin typeface="Lucida Grande"/>
              </a:rPr>
              <a:t>take power illegally and by force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cc"/>
                </a:solidFill>
                <a:latin typeface="Lucida Grande"/>
              </a:rPr>
              <a:t>Democracy - "People Rule"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Lucida Grande"/>
              </a:rPr>
              <a:t>From the Greek demos (common people) + kratos (rule, strength) </a:t>
            </a:r>
            <a:r>
              <a:rPr b="0" lang="en-US" sz="3600" spc="-1" strike="noStrike">
                <a:solidFill>
                  <a:srgbClr val="d90b00"/>
                </a:solidFill>
                <a:latin typeface="Lucida Grande"/>
                <a:ea typeface="ヒラギノ角ゴ ProN W3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Lucida Grande"/>
              </a:rPr>
              <a:t>Ruling power is in the hands of the people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In a democracy, all citizens share in the ruling power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cc"/>
                </a:solidFill>
                <a:latin typeface="Lucida Grande"/>
              </a:rPr>
              <a:t>Types of Democrac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2712"/>
                </a:solidFill>
                <a:latin typeface="Lucida Grande"/>
              </a:rPr>
              <a:t>Direct democracy: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lvl="1" marL="838080" indent="-317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2712"/>
                </a:solidFill>
                <a:uFillTx/>
                <a:latin typeface="Lucida Grande"/>
              </a:rPr>
              <a:t>Every citizen</a:t>
            </a:r>
            <a:r>
              <a:rPr b="0" lang="en-US" sz="2800" spc="-1" strike="noStrike">
                <a:solidFill>
                  <a:srgbClr val="ff2712"/>
                </a:solidFill>
                <a:latin typeface="Lucida Grande"/>
              </a:rPr>
              <a:t> votes on every issue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295280" indent="-317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. A town hall meeting to vote on the name of a new stree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0b00"/>
                </a:solidFill>
                <a:latin typeface="Lucida Grande"/>
              </a:rPr>
              <a:t>Representative democracy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lvl="1" marL="838080" indent="-317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Citizens vote for </a:t>
            </a:r>
            <a:r>
              <a:rPr b="0" lang="en-US" sz="2800" spc="-1" strike="noStrike" u="sng">
                <a:solidFill>
                  <a:srgbClr val="d90b00"/>
                </a:solidFill>
                <a:uFillTx/>
                <a:latin typeface="Lucida Grande"/>
              </a:rPr>
              <a:t>representatives</a:t>
            </a:r>
            <a:r>
              <a:rPr b="0" lang="en-US" sz="2800" spc="-1" strike="noStrike">
                <a:solidFill>
                  <a:srgbClr val="d90b00"/>
                </a:solidFill>
                <a:latin typeface="Lucida Grande"/>
              </a:rPr>
              <a:t> who decide issues in their name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295280" indent="-317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Ex. Citizens of NC elected Senator Kay Hagan to make decisions for them in the U.S. Congres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</a:rPr>
              <a:t>Glue in the graphic organizer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Use the graphic organizer as your “capture tool” to gather information on how the four forms of government we have looked at developed in ancient Greece.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Use bulleted notes in the text boxes.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Look for ONE MAIN IDEA/NOTE per paragraph as you </a:t>
            </a:r>
            <a:r>
              <a:rPr b="1" lang="en-US" sz="3000" spc="-1" strike="noStrike">
                <a:solidFill>
                  <a:srgbClr val="000000"/>
                </a:solidFill>
                <a:latin typeface="Lucida Grande"/>
              </a:rPr>
              <a:t>determine importance</a:t>
            </a: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Grande"/>
              </a:rPr>
              <a:t>After you have written down your notes, create a visual in the corner of each box that represents that form of government.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</a:rPr>
              <a:t>Jigsaw Direction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525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-317520">
              <a:lnSpc>
                <a:spcPct val="100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You will receive a number 1-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17520">
              <a:lnSpc>
                <a:spcPct val="100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ir up with another same numb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mplete your reading &amp;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17520">
              <a:lnSpc>
                <a:spcPct val="100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You will then meet up as “expert groups” with the rest of your sam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17520">
              <a:lnSpc>
                <a:spcPct val="100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n you will group up as a 1-2-3-4 numbered group and share y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1600200"/>
            <a:ext cx="4051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 Italic"/>
                <a:ea typeface="Arial Bold Italic"/>
              </a:rPr>
              <a:t>If you are a..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Grande"/>
              </a:rPr>
              <a:t>1 = Monarch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Grande"/>
              </a:rPr>
              <a:t>2 = Oligarch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Grande"/>
              </a:rPr>
              <a:t>3 = Tyrann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Lucida Grande"/>
              </a:rPr>
              <a:t>4 = Democrac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702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Grande"/>
              </a:rPr>
              <a:t>Microtheme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Lucida Grande"/>
              </a:rPr>
              <a:t>Rise of Democracy in Ancient Greece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NAME-DATE-BLOCK your index card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-317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Use your notes to answer the following question. Be specific and inclu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Grande"/>
              </a:rPr>
              <a:t>evidence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 to support your answer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Grande"/>
              </a:rPr>
              <a:t>How did the governments in ancient Greece evolve from being ruled by kings to being ruled democratically?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